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5E1-BE9D-4C5E-ADE8-8B0B2BD6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6DA-7C9B-4533-8316-B3368ECE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5CE-674F-4A41-B294-DC3AD25F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F02-64B8-4270-882E-1B8EAAB9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2BE-9866-49BD-96CF-E19D079C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D38-9BF2-4D10-8523-427DF5F6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FCD-B021-40A7-A427-925ACDE2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669-1D86-47E8-8409-1CC3D18E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114-1170-4DC5-9228-A8F82DB3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EF0-E72D-4438-A42A-33CADFDF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1D5-3E69-40AD-8E64-C4ABDB76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FEC-1EE3-4CAA-9C72-D52BDAC8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3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141B-BCD6-4B14-8A24-BEC84808AC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533520"/>
            <a:ext cx="4419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Ecosystem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80920" y="1295280"/>
            <a:ext cx="114948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Ch. 5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914400" y="20574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ree hundred trout are needed to support one man for a year.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trout, in turn, must consume 90,000 frogs, that must consume 27 million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asshoppers that live off of 1,000 tons of grass.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- G. Tyler Miller, Jr., American Chemist (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Pyra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Production Pyramid: Shows how much energy is in each trophic leve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er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one trophic level is transferred to the n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9" descr="http://www.mlms.logan.k12.ut.us/~mlowe/EnergyPyramid.gif"/>
          <p:cNvPicPr/>
          <p:nvPr/>
        </p:nvPicPr>
        <p:blipFill>
          <a:blip r:embed="rId1"/>
          <a:stretch/>
        </p:blipFill>
        <p:spPr>
          <a:xfrm>
            <a:off x="3276720" y="3067200"/>
            <a:ext cx="49528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Pyra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990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Biomass Pyramid: Shows the total amount of living material in a trophic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s the potential amount of food for the next trophic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http://image.tutorvista.com/content/ecosystem/biomass-upright-pyramid.jpeg"/>
          <p:cNvPicPr/>
          <p:nvPr/>
        </p:nvPicPr>
        <p:blipFill>
          <a:blip r:embed="rId1"/>
          <a:stretch/>
        </p:blipFill>
        <p:spPr>
          <a:xfrm>
            <a:off x="4648320" y="2743200"/>
            <a:ext cx="449568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Pyra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371240"/>
            <a:ext cx="35812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Pyramid of Numbers: Shows the number of organisms in each trophic lev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http://www.bbc.co.uk/schools/ks3bitesize/science/images/pyramid_of_numbers1.gif"/>
          <p:cNvPicPr/>
          <p:nvPr/>
        </p:nvPicPr>
        <p:blipFill>
          <a:blip r:embed="rId1"/>
          <a:srcRect l="18604" t="0" r="19380" b="0"/>
          <a:stretch/>
        </p:blipFill>
        <p:spPr>
          <a:xfrm>
            <a:off x="3886200" y="1714680"/>
            <a:ext cx="5257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iogeochemical Cyc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fer matter through the biosphe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terials change from one form into an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541008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mypages.spiceisle.com/nawasa/images/water_cycle.jpg"/>
          <p:cNvPicPr/>
          <p:nvPr/>
        </p:nvPicPr>
        <p:blipFill>
          <a:blip r:embed="rId1"/>
          <a:srcRect l="0" t="0" r="0" b="7496"/>
          <a:stretch/>
        </p:blipFill>
        <p:spPr>
          <a:xfrm>
            <a:off x="685800" y="12193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3504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troge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www.uwsp.edu/geo/faculty/ritter/geog101/textbook/earth_system/nitrogen_cycle_EPA.jpg"/>
          <p:cNvPicPr/>
          <p:nvPr/>
        </p:nvPicPr>
        <p:blipFill>
          <a:blip r:embed="rId1"/>
          <a:stretch/>
        </p:blipFill>
        <p:spPr>
          <a:xfrm>
            <a:off x="685800" y="1100160"/>
            <a:ext cx="739152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http://www.co2logic.com/home.aspx/html/Images/carbon%20cycle.jpg"/>
          <p:cNvPicPr/>
          <p:nvPr/>
        </p:nvPicPr>
        <p:blipFill>
          <a:blip r:embed="rId1"/>
          <a:stretch/>
        </p:blipFill>
        <p:spPr>
          <a:xfrm>
            <a:off x="457200" y="1217520"/>
            <a:ext cx="80773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5638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sphorous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https://bioh.wikispaces.com/file/view/36-17-PhosphorusCycle-L.gif/31445793/36-17-PhosphorusCycle-L.gif"/>
          <p:cNvPicPr/>
          <p:nvPr/>
        </p:nvPicPr>
        <p:blipFill>
          <a:blip r:embed="rId1"/>
          <a:stretch/>
        </p:blipFill>
        <p:spPr>
          <a:xfrm>
            <a:off x="1371600" y="1143000"/>
            <a:ext cx="60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estrial 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920" y="1066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d by precipitation &amp;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adapted to these conditions thriv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www.chlive.org/pbeck/eastlibrary/BIOMES.gif"/>
          <p:cNvPicPr/>
          <p:nvPr/>
        </p:nvPicPr>
        <p:blipFill>
          <a:blip r:embed="rId1"/>
          <a:srcRect l="0" t="7706" r="0" b="7517"/>
          <a:stretch/>
        </p:blipFill>
        <p:spPr>
          <a:xfrm>
            <a:off x="533520" y="2438280"/>
            <a:ext cx="6788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precipitation, High h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cturnal lifesty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Low met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leav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CAM &amp; C4 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pro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ing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artery surface ar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Noctur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://www.marietta.edu/~biol/biomes/energy_flow.gif"/>
          <p:cNvPicPr/>
          <p:nvPr/>
        </p:nvPicPr>
        <p:blipFill>
          <a:blip r:embed="rId1"/>
          <a:stretch/>
        </p:blipFill>
        <p:spPr>
          <a:xfrm>
            <a:off x="0" y="0"/>
            <a:ext cx="845820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ld deser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chens, mosses, some shrub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il is mostly frozen = permafr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ratory animals: Reindeer, Caribou,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leaf, tall trees to maximize sunlight absorp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t rainfall washes away nutrients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with fibrous root systems can access water &amp; minerals quick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very diverse due to many resources &amp; living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t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sses thrive because their meristems are undergr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dapted to ground dwelling &amp; migratory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kes: Freestan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sh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al with sudden changes… acid 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s/Rivers: Flowing fresh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aries: Transition zone of fresh &amp; salt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hes &amp; plants adapted to changing sal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regulators     Ex. Tila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tlands: Land area covered with water for a significant amount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s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g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tidal: Rocky coasts, shor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&amp; animals attach to rocks and other hard surfaces or burrowing into s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eanic Pelagic Zone: Open oc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kt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ratory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al Reefs: Algae &amp; coral mutu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hes, Crabs… very dive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ine Benthic Zone: Ocean fl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species discovered consta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oautotrophic bacteria support a variety of unique marine life like tube worms &amp; ghost shri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ary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of solar energy converted into usable chemical energy in a time peri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icts/Models the health of an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ary Produ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ers: Produce chemical energy but also require it themselves for cellular respiratio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ss PP = Total chemical energy produc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t PP = GPP – 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resents energy available to consumers and can be used to partially predict ‘K’ for a popu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sciencebitz.com/wp-content/uploads/2009/05/net-primary-production.jpg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globalchange.umich.edu/globalchange1/current/lectures/kling/energyflow/typeecob2.gif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ary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of consumers’ food used towards their own body m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s are usually less than 20% effic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sciencebitz.com/wp-content/uploads/2009/05/nsp.jpg"/>
          <p:cNvPicPr/>
          <p:nvPr/>
        </p:nvPicPr>
        <p:blipFill>
          <a:blip r:embed="rId1"/>
          <a:srcRect l="0" t="18676" r="0" b="0"/>
          <a:stretch/>
        </p:blipFill>
        <p:spPr>
          <a:xfrm>
            <a:off x="990720" y="3505320"/>
            <a:ext cx="6213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Trans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has 200 J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erpillar eats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 J of plant cannot be metabolized and is elimint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J is used for cellular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eaves 33 J (17%) energy contributing to the caterpillars body mass (growt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Pyra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2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dels used to show energy transfers in ecosyst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www.bbc.co.uk/history/ancient/egyptians/images/gal_04_dyn.jpg"/>
          <p:cNvPicPr/>
          <p:nvPr/>
        </p:nvPicPr>
        <p:blipFill>
          <a:blip r:embed="rId1"/>
          <a:stretch/>
        </p:blipFill>
        <p:spPr>
          <a:xfrm>
            <a:off x="1905120" y="2209680"/>
            <a:ext cx="50292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9:32:22Z</dcterms:created>
  <dc:creator>leanne</dc:creator>
  <dc:description/>
  <dc:language>en-US</dc:language>
  <cp:lastModifiedBy>leanne</cp:lastModifiedBy>
  <dcterms:modified xsi:type="dcterms:W3CDTF">2010-04-09T01:47:03Z</dcterms:modified>
  <cp:revision>21</cp:revision>
  <dc:subject/>
  <dc:title>Community Ecology</dc:title>
</cp:coreProperties>
</file>